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8280" y="624528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/9/200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lide </a:t>
            </a:r>
            <a:fld id="{35C4DE33-D9EA-4E84-A264-DC6E6E5E0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72360" y="6093000"/>
            <a:ext cx="114300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015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272360" y="6093000"/>
            <a:ext cx="1143000" cy="534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8218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st False River Barrier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sheries and Water Quality Benefi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ugust 9, 200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anks Tract Pumps Seawate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o the Del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61920" y="1562040"/>
            <a:ext cx="6634440" cy="442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4952880"/>
            <a:ext cx="267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If movie does not start playing automatically, double click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sonal Rock Barrier in False Riv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8400" y="1854360"/>
            <a:ext cx="4186440" cy="3439800"/>
            <a:chOff x="698400" y="1854360"/>
            <a:chExt cx="4186440" cy="34398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98400" y="1854360"/>
              <a:ext cx="4186440" cy="343980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 flipH="1">
              <a:off x="1341000" y="3416760"/>
              <a:ext cx="59040" cy="14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81480" y="1828800"/>
            <a:ext cx="3378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barrier for salinit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/spring barrier for 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done quickly and chea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sh Benefi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36560" y="1663560"/>
            <a:ext cx="4346640" cy="3924000"/>
            <a:chOff x="736560" y="1663560"/>
            <a:chExt cx="4346640" cy="39240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rcRect l="24003" t="27697" r="16002" b="0"/>
            <a:stretch/>
          </p:blipFill>
          <p:spPr>
            <a:xfrm>
              <a:off x="736560" y="1663560"/>
              <a:ext cx="4346640" cy="39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33240" y="3037680"/>
              <a:ext cx="286560" cy="24696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21480" y="3299400"/>
              <a:ext cx="288000" cy="2480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719800" y="3037680"/>
              <a:ext cx="132840" cy="261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23040" y="2082960"/>
            <a:ext cx="31114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reduction in South Delta entrainment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 fish on the San Joaquin upstream of Franks Tra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linity Reduc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9640" y="1778040"/>
            <a:ext cx="748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1701720"/>
          <a:ext cx="8194680" cy="4022640"/>
        </p:xfrm>
        <a:graphic>
          <a:graphicData uri="http://schemas.openxmlformats.org/drawingml/2006/table">
            <a:tbl>
              <a:tblPr/>
              <a:tblGrid>
                <a:gridCol w="1816200"/>
                <a:gridCol w="1218960"/>
                <a:gridCol w="1168560"/>
                <a:gridCol w="1333440"/>
                <a:gridCol w="1290600"/>
                <a:gridCol w="13669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A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 year aver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 mon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 False River barrier could have saved smelt this past spr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smelt map" descr=""/>
          <p:cNvPicPr/>
          <p:nvPr/>
        </p:nvPicPr>
        <p:blipFill>
          <a:blip r:embed="rId2"/>
          <a:stretch/>
        </p:blipFill>
        <p:spPr>
          <a:xfrm>
            <a:off x="333360" y="1676520"/>
            <a:ext cx="5783400" cy="4422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54960" y="28447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elt were upstream of Franks Tract in early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 False River barrier could have saved smelt this past spr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08760" y="2540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elt were at the export pumps in late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2320" y="1928880"/>
            <a:ext cx="5659560" cy="30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2320" y="1928880"/>
            <a:ext cx="5659560" cy="3002040"/>
          </a:xfrm>
          <a:prstGeom prst="rect">
            <a:avLst/>
          </a:prstGeom>
          <a:noFill/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63960" y="4830840"/>
            <a:ext cx="68400" cy="1000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4230720"/>
            <a:ext cx="66960" cy="7002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130640"/>
            <a:ext cx="69840" cy="8002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0640" y="4530600"/>
            <a:ext cx="68040" cy="40032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07160" y="2529000"/>
            <a:ext cx="68040" cy="240192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41880" y="3430440"/>
            <a:ext cx="68400" cy="15004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8400" y="3530520"/>
            <a:ext cx="68400" cy="14004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5360" y="4830840"/>
            <a:ext cx="6660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1880" y="4530600"/>
            <a:ext cx="66600" cy="40032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830840"/>
            <a:ext cx="6660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60760" y="4729320"/>
            <a:ext cx="6696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4729320"/>
            <a:ext cx="6696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7440" y="4729320"/>
            <a:ext cx="666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3960" y="4729320"/>
            <a:ext cx="666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5200" y="4830840"/>
            <a:ext cx="6696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0280" y="4729320"/>
            <a:ext cx="684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1928880"/>
            <a:ext cx="0" cy="30020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4800" y="493092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4800" y="44308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4800" y="39304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800" y="343044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4800" y="292896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800" y="242892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00" y="19288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2320" y="4930920"/>
            <a:ext cx="565956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223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1588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9392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304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669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016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385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718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8083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308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7960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164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5120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877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242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593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958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674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021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372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737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088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453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818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8200" y="484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8200" y="4343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1800" y="3841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1800" y="3343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1800" y="2840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1800" y="2341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800" y="1839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98520" y="4988880"/>
            <a:ext cx="5372640" cy="527760"/>
            <a:chOff x="1298520" y="4988880"/>
            <a:chExt cx="5372640" cy="527760"/>
          </a:xfrm>
        </p:grpSpPr>
        <p:sp>
          <p:nvSpPr>
            <p:cNvPr id="166" name=""/>
            <p:cNvSpPr/>
            <p:nvPr/>
          </p:nvSpPr>
          <p:spPr>
            <a:xfrm rot="16200000">
              <a:off x="113508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61136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208296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2554200" y="515772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30258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349884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39672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44388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491328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5383440" y="515232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585648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6387840" y="523332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J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88200" y="337356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o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5916600"/>
            <a:ext cx="130032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6400" y="5983200"/>
            <a:ext cx="93600" cy="936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5943600"/>
            <a:ext cx="35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3680" y="5983200"/>
            <a:ext cx="93600" cy="93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33280" y="594360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30520" y="2544840"/>
            <a:ext cx="283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ount of delta smelt at the Stat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30880" y="2732040"/>
            <a:ext cx="277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export pumps since May 9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7:27:18Z</dcterms:created>
  <dc:creator>Jennifer Allen</dc:creator>
  <dc:description/>
  <dc:language>en-US</dc:language>
  <cp:lastModifiedBy>serende</cp:lastModifiedBy>
  <dcterms:modified xsi:type="dcterms:W3CDTF">2007-08-10T17:27:19Z</dcterms:modified>
  <cp:revision>315</cp:revision>
  <dc:subject/>
  <dc:title>Slide 1</dc:title>
</cp:coreProperties>
</file>